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HIMES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183A-5266-4B75-8AB1-64C2902AE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E254-5166-4A29-81E4-88C5739FA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A499-AAD3-45B0-B8CA-EEB9A0589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250B-D34A-4A0B-8EB5-0B9C96160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2679-9F1A-4637-9D47-21C5612B6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2AE2-4179-4859-8E4A-BE0F1A1AA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8C96-CC0E-4690-96B5-39CEE5316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70F7-977D-4E71-B915-B51075242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0534-DD64-4366-8908-74D12C139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0029-9277-4AE4-A5A5-C9C0BCB0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EEA2-FBBE-4D3C-9BF7-C074A9B7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7FB1-F04A-460C-9D15-12D0EFEE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70D22-B4B2-4895-AAF3-966FD8A599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5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slide15.xml"/><Relationship Id="rId10" Type="http://schemas.openxmlformats.org/officeDocument/2006/relationships/slide" Target=""/><Relationship Id="rId11" Type="http://schemas.openxmlformats.org/officeDocument/2006/relationships/slide" Target="slide16.xml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slide11.xml"/><Relationship Id="rId17" Type="http://schemas.openxmlformats.org/officeDocument/2006/relationships/slide" Target=""/><Relationship Id="rId18" Type="http://schemas.openxmlformats.org/officeDocument/2006/relationships/slide" Target="slide12.xml"/><Relationship Id="rId19" Type="http://schemas.openxmlformats.org/officeDocument/2006/relationships/slide" Target=""/><Relationship Id="rId20" Type="http://schemas.openxmlformats.org/officeDocument/2006/relationships/slide" Target=""/><Relationship Id="rId21" Type="http://schemas.openxmlformats.org/officeDocument/2006/relationships/slide" Target="slide9.xml"/><Relationship Id="rId22" Type="http://schemas.openxmlformats.org/officeDocument/2006/relationships/slide" Target=""/><Relationship Id="rId23" Type="http://schemas.openxmlformats.org/officeDocument/2006/relationships/slide" Target=""/><Relationship Id="rId24" Type="http://schemas.openxmlformats.org/officeDocument/2006/relationships/slide" Target="slide7.xml"/><Relationship Id="rId25" Type="http://schemas.openxmlformats.org/officeDocument/2006/relationships/slide" Target=""/><Relationship Id="rId26" Type="http://schemas.openxmlformats.org/officeDocument/2006/relationships/slide" Target=""/><Relationship Id="rId27" Type="http://schemas.openxmlformats.org/officeDocument/2006/relationships/slide" Target="slide19.xml"/><Relationship Id="rId28" Type="http://schemas.openxmlformats.org/officeDocument/2006/relationships/slide" Target=""/><Relationship Id="rId29" Type="http://schemas.openxmlformats.org/officeDocument/2006/relationships/slide" Target="slide20.xml"/><Relationship Id="rId30" Type="http://schemas.openxmlformats.org/officeDocument/2006/relationships/slide" Target=""/><Relationship Id="rId31" Type="http://schemas.openxmlformats.org/officeDocument/2006/relationships/slide" Target=""/><Relationship Id="rId32" Type="http://schemas.openxmlformats.org/officeDocument/2006/relationships/slide" Target="slide3.xml"/><Relationship Id="rId3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ela Bea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mplify: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-3(x+1)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+4(x-2)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35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87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37x+61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4896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is Carrie Underwoo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IPB Image"/>
          <p:cNvPicPr/>
          <p:nvPr/>
        </p:nvPicPr>
        <p:blipFill>
          <a:blip r:embed="rId2"/>
          <a:stretch/>
        </p:blipFill>
        <p:spPr>
          <a:xfrm>
            <a:off x="2895480" y="1295280"/>
            <a:ext cx="28688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1" action="ppaction://hlinksldjump"/>
          </p:cNvPr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 members of a family l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p to have their picture taken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is the number of ways th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be arrange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 is 5040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rId1" action="ppaction://hlinksldjump"/>
          </p:cNvPr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1066680"/>
            <a:ext cx="7772400" cy="4419720"/>
          </a:xfrm>
          <a:prstGeom prst="wedgeRectCallout">
            <a:avLst>
              <a:gd name="adj1" fmla="val -23490"/>
              <a:gd name="adj2" fmla="val 588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nd the number of distinguish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ermutations using the letters i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wor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THEMATIC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4,989,600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rId1" action="ppaction://hlinksldjump"/>
          </p:cNvPr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15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is Ruben Studd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981080" y="137160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1" action="ppaction://hlinksldjump"/>
          </p:cNvPr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etermine the number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 digit telephone number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t can be formed un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condition that each of 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rst three digits cannot be 0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7,290,000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rId1" action="ppaction://hlinksldjump"/>
          </p:cNvPr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re are 20 girls in a beaut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geant.  A queen, a firs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unner-up, and a second runner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p are to be chosen. This is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umber of different possi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utcom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6840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120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6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5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7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8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9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10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1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2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3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80880"/>
            <a:ext cx="1600200" cy="3988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Cr and n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62320" y="380880"/>
            <a:ext cx="1752480" cy="7038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me that Id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876920" y="380880"/>
            <a:ext cx="1600200" cy="7038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d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0880"/>
            <a:ext cx="1752840" cy="3988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ther stu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4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5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6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7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8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9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0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1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22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3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4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5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6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7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8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9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30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31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rId1" action="ppaction://hlinksldjump"/>
          </p:cNvPr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is Bo Bi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Bo Bice"/>
          <p:cNvPicPr/>
          <p:nvPr/>
        </p:nvPicPr>
        <p:blipFill>
          <a:blip r:embed="rId2"/>
          <a:stretch/>
        </p:blipFill>
        <p:spPr>
          <a:xfrm>
            <a:off x="2971800" y="1371600"/>
            <a:ext cx="228600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f a special at a diner offers 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hoice of one each of tw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ppetizers, four entrees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five desserts.  This is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umber of distinct meals th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re possib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40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is the number of way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committee of 9 people c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e selected from a group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2 peop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220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715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is Kelly Clarks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Kelly Clarkson"/>
          <p:cNvPicPr/>
          <p:nvPr/>
        </p:nvPicPr>
        <p:blipFill>
          <a:blip r:embed="rId2"/>
          <a:stretch/>
        </p:blipFill>
        <p:spPr>
          <a:xfrm>
            <a:off x="3581280" y="1447920"/>
            <a:ext cx="20005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is how many ways 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mmittee of two boys 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ree girls ca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e formed from a group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0 boys and 12 girl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9900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xpand (5x+2y)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90720" y="22860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125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50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+60x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8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5040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is Sanjaya Malak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sanjaya_malakar.jpg"/>
          <p:cNvPicPr/>
          <p:nvPr/>
        </p:nvPicPr>
        <p:blipFill>
          <a:blip r:embed="rId2"/>
          <a:stretch/>
        </p:blipFill>
        <p:spPr>
          <a:xfrm>
            <a:off x="3048120" y="1752480"/>
            <a:ext cx="23810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 auto license plate is mad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sing two letters follow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y three digits.  This is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umber of license plates possib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676,000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abeason</cp:lastModifiedBy>
  <cp:lastPrinted>2001-01-31T16:21:13Z</cp:lastPrinted>
  <dcterms:modified xsi:type="dcterms:W3CDTF">2009-04-02T12:58:21Z</dcterms:modified>
  <cp:revision>61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